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D50-2045-4F91-983F-6473D5CE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898-2CBE-4B03-9733-DB996AF1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72AFF-DE1D-496B-AEBD-7A397383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9A238-E819-4711-AC3C-5FDE001E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A748D-D4DA-4AAC-A298-F3CDE2A2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56608-5178-407D-9354-876D2C6D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74CDD-7B80-4976-BCDA-F0D1C6BF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BAC55-D247-4C86-A8DF-BEC5849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D5A2F-7FDF-4A75-B652-16BDAC38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45283-B974-40E9-AD05-FA394E17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AF795-A20A-4C93-A066-A9453053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09689-F78C-49E6-A3B1-6E803135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6E1-0350-4155-9F88-8146218A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41ACE-DCCC-4933-AD16-E5155E87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6535C-4DDE-446B-87F1-1196FCB5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22460-CB08-4B14-8796-425E78F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B8D61-962E-436D-B4BC-67215C32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ECCFA-A27D-48D3-81A3-A79C97B4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260E3-D16B-49DE-9B8A-F2D57CA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86A44-DF52-4F53-8115-2E62B6B9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47156-4D96-4D10-BE43-50E0BD7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E578A-54D7-43D3-9331-17B39FD6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F2085-3B7D-445B-B92A-1CF19B94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782-FF68-4076-984D-962E2F3E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666F8-6EE4-4906-9441-EF0E4187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EF7E9-57C2-457F-9768-87C7E6ED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0ECCA-C9A8-4035-8C26-AC4E7186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2374C-0F5E-433A-B60B-D9F4559A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248F7-0A32-43E6-80D6-C1BC6861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80ADC-C7A5-4B8F-9D0B-107852E9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E820F-ED08-48BB-8FA2-B6CE5856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26C55-DB71-48D7-8D17-FFD734AE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5B759-6B2A-426F-9DB8-ECA49BF7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30E3D-F2B6-4128-B996-38600E82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2343-5870-4B15-B674-B5225756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54DFC-50C8-440A-9A4F-5D32A211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32870-8D24-4D64-8329-00523DA6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022E-1157-4A6F-8137-5BF564C2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A64DE-FB7D-4097-88F2-CC073387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CC70F-A88F-4290-9BA7-BF6B7DA3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DCFD0-8EB2-41CD-A08F-551C3B05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53E87-C133-4207-8DFC-C5C9AFEE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59C6E-40CC-41DF-8C40-CAAE3E8E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A5967-68FC-433C-BCA9-81C83E3F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66740-1756-496D-9FAF-74B00C0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F9EA-9F18-4C48-B1F6-A1469473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D380B-794A-43A5-9B92-8C910626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0A328-DB69-443F-96BD-A268985B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28C4E-8859-40E8-8596-19F8E7F2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A2155-C385-4EDE-AAC3-76053838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76D3D-A507-4598-9B87-E8227B8D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2F6A-9B9E-4735-8126-731DFABD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5AA1-48D4-4400-AEDB-58F0ADA9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1EF9-BE73-4E6F-896F-155701AC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58AF-FAFF-4730-B027-C096C105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6766-2D76-44C5-AA62-0D9CD86B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45B-85D9-459F-B498-61A99A98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52BF-5273-4DB2-9508-AC5E96E6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257C-4F92-4F31-9417-59BB6D7E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EAE2-0CE0-4217-A84E-05BA74AF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8083-EBF6-483F-97A7-C6A0D6C4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3270-7E7A-4552-8FB4-C47F7A24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DE67-ABA5-4D68-AED4-E7AB13AB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3C68-9318-4AC2-AAAF-3E26F5BD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544F-6428-41B6-9B56-3436ACAC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E3D79-317B-48D2-B1F4-9EEC3FEF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F813-8899-4ABA-A8E6-AD3994B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D13-06EF-45CD-85FC-6D7386DF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0A24-9CCE-4DAC-8F63-65F7E917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C127-4856-4C68-B0D2-23EAB34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C04C-A766-4AEA-BCFF-6C3C40D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811C-7488-4F42-96D9-956AC1F6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F857-AFC6-4C4E-93DF-96349E6E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C45C-4F15-449B-8635-CAC3ACC3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CE715-5F27-4B8F-BC29-828FB2DA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0E18-5D88-4146-859A-DDB06C53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00C4-7C3B-4DDC-955A-0B75B90E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D81DC-456D-4D6F-8CC9-EC5CF7FE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7A4-D480-4B39-AC25-8023E28B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DBC37-3BAE-49AC-BCDB-224ABD25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0CCF-2483-48BD-9108-39AFFF70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E25B-A956-43FB-BF4C-9F2F46B1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ADA8-0DF7-41A3-A90D-4F22ED5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A76BC-2D50-40C4-85A7-79FE954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28EC-0243-4BDF-B6D8-DFC9D7FA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70A1-0BF8-48FF-9342-7DB41E06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965B7-327C-42F4-87CF-93C347B3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9EC0-D443-4D35-8944-167A2257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D294D-CF9B-47F7-86B1-1FE03A58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7C5-2291-4E1A-936A-F4E23772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6079-1EC8-4C60-A99C-EB82935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0B585-D587-49FD-BB55-73F49DAD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2258E-B34E-441D-BEF2-BAF03045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06D1-B569-40EC-A47A-6CC3532A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071A-4221-4109-890D-478CDF38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E5EAA-3C6F-4A2F-9E4D-85C156B9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4424-BAD3-4A0C-9348-5D039B1A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60653-54E9-4909-9E8B-B0450A6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4B101-B22E-4035-A9A4-D0F7E483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0200-6128-4E8E-A105-83FE94C6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FEF-D5BB-4462-A569-273D166E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AEFF0-49B2-4604-8525-ADF4CAF3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E6A9-4484-4944-9A28-D492E45E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ACA6D-88C1-4431-A451-7639F65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41E20-C6DE-4DA3-831D-0DD1C4AA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406C-537C-4AE4-A80D-DBA4615B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18277-6566-4508-83C3-B2F36D89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7978F-18E6-40BD-941F-CA6585DB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4005C-F6EB-47AB-B43D-2479C29A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A75B-A634-4197-9156-018E239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1240-A328-42F5-888B-F8EA6DC9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8C6-C037-4BB4-B85D-BB227CD7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9EDB7-2F65-4E81-8F11-2C5796B1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46EB4-C564-47C1-956C-075E85E0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B2E33-BBA3-475A-A737-DB36AE6F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D5D2A-2AB0-423D-8B7E-99095F10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8C7C-B99D-4D09-A1DE-67C0D46E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7EB56-C09E-4842-B7FD-C89DFB15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FBD76-FD93-446C-96BE-E760D26C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A9971-FB27-4972-B766-FEDD1409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2BDC6-FEDD-4751-BC63-E72A89D9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E4B66-959E-4329-99FB-E051140C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E3C-A6B8-44E4-96B6-760F3F0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CF46F-7C0E-4FDA-BC7A-A921BC29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5855-6735-4A0D-A545-E973F4FC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E4FD2-7411-4EE4-9AD0-439A722E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814D-F4FE-463B-A1CA-85803090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28C5E-5833-48D8-B194-DA5388AB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E14E-D798-45B0-8898-0AEC59C7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FFE5A-5335-4E20-867A-A150ADFE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D4E25-CBA9-4B52-AA97-E0305B0C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22570-545C-4AE6-BCED-92F11BFE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8E541-5CE9-4519-8993-1D4F24B1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154-A756-45AB-9065-0754B57B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BE19-645C-4916-8442-DCABA093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77B87-0823-4812-829B-6CB01095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18E07-B6FA-497E-8824-9E62B14B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1220A-6982-4CFA-B935-E909F0E8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A7F4B-0C1B-4750-AD19-99832662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4425D-F6E8-425C-89AC-90D9BAAD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072B4-1849-4180-B599-22E76EDC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53304-FECF-4B69-9C01-B91AB7DA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28877-0F35-4AE6-B9D0-22C2ABF9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5F166-8521-4A24-BE3E-AAA544FC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418-1160-4663-B210-0E30109354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B749-9099-4040-A7DF-32CC91622A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E0F1-EBF4-4285-A908-E70B18052A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F76F-0518-44D1-954B-1B355D3C65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A763-C2CA-44B4-8743-9B94F222E2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1A56-AA29-450D-BD1F-F71BAE2457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0ED5-83CF-4AA3-9046-A05E6E1DF5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80C-8352-4EB9-A156-50866266288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4BF9-4DD3-4109-9A83-3EDA956440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422C-6BC8-4422-8CE5-7BD6B15B77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1491-5940-4C0B-A747-42660F6957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AE5E-A8BA-444F-819E-CFE79BBBDF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6 Kto s tebou, Pane, bude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s tebou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v úprimnosti cho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lížnemu kto neuško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sa bude sm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čne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s tebou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zástancom je pravd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sa nedopúšťa zrad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en sa bude sm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z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rado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s tebou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blížnych háji pr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aždému, čo jeho,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sa bude sm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 večne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s tebou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v tomto žitia boj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íťazí vždy v Ducha zbroj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en sa bude sm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z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rado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57:40Z</dcterms:modified>
  <cp:revision>24</cp:revision>
  <dc:subject/>
  <dc:title>Je veľký náš Pán, on slávy je Kráľ Nech do všetkých strán  spev vrúcnych znie chvál.</dc:title>
</cp:coreProperties>
</file>